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AFE-E0A2-42A9-A55D-673FAEC63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D0E7-BCB7-469D-AE28-295F9B7904B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A87-B8F6-436F-960E-3BF3D76C4DB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373-FE55-4CED-A7F6-2C783B2F3EB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F3F-65FB-4C34-AFEB-66B7518B3C4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57C-53C7-42AC-AD71-D261EAEE284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00A7-6261-4101-A08E-D3F99C72850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99B-FE7E-435E-9EFA-6A7AD0A9E1B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4AB-1226-4F05-987D-B769D6A8445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60B6-F3B4-489A-BF4C-5F4825CC17C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E46-B348-4AA6-99B3-1991E949E54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FAB8-3A6A-4A42-A46C-85CD082DBAE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DCA-46AB-464B-90F3-6C43FD78E9D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0FE-D2AB-49CA-9673-831465AA551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5EF-0D45-49E6-A06D-AA49FDF605B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D3B6-BB31-4189-BE4F-B4C9414A86E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CB42-4310-4254-A3B2-4CF08643A01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CD3-08EB-429B-9BCA-463477AD418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29C6-AF07-47E5-B78A-ECE85F95158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F13B-67FA-485F-9888-4CE236D67E3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C69-5E2D-4C55-8C3D-90332A491C6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3F0-9D82-4D4A-8F29-E60A47DD708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6016-8B76-463F-9F81-6570B19B62A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46E-7439-453B-8AA4-03CCD5D468A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64B-140B-411F-8058-E201E46E6BF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DDA-A80A-4C86-9EAD-72307E1EF88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20ED-7A16-4C54-A608-55542315801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EB8-3947-482F-82BD-5E9FC0A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61B-7151-4F84-94A4-CD0300F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068-BC8B-4A88-8063-5EE994A5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F8F-1F17-44B8-93A3-E680FF1B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3B2-EA15-4A97-A58A-392A6D14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4D8-D323-4539-BE87-47597415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B75-97DF-4267-98FF-28EED372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797-266C-42B4-B4C5-DFB30D9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14E-685B-4057-B375-6C6FF0F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B83-1BF2-447A-B6B7-D6AE5968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CCD-1FD4-4E90-811A-8C3681C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CC1-2167-4F39-A19F-049567D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0B72-5255-4923-B0F2-9ACF42A923F2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s temps français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une vue d’ensembl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À Antibes, nous avons regardé des bateaux en mer, nous nous sommes promenés le long des remparts, puis nous avons visité la marina, où nous avons vu des bateaux de lux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3" name="Picture 6" descr="Antibes 20"/>
          <p:cNvPicPr/>
          <p:nvPr/>
        </p:nvPicPr>
        <p:blipFill>
          <a:blip r:embed="rId1"/>
          <a:stretch/>
        </p:blipFill>
        <p:spPr>
          <a:xfrm>
            <a:off x="1676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tibes 28"/>
          <p:cNvPicPr/>
          <p:nvPr/>
        </p:nvPicPr>
        <p:blipFill>
          <a:blip r:embed="rId2"/>
          <a:stretch/>
        </p:blipFill>
        <p:spPr>
          <a:xfrm>
            <a:off x="5410080" y="1866960"/>
            <a:ext cx="2797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Passé Composé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avons écouté le nouveau CD d’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suis sorti au resto hier soir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est levé de bonne heure aujourd’hui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 listened to the new CD of 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 went out to a restaurant last nigh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got up early today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Le Présent du verbe venir + de + l’infinitif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passé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 phrase “Je viens de rentrer” exprime l’idée d’un reto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i l’on se sert de l’Imparfait de venir, l’idée est d’une action passée juste avant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vient d’acheter une énorme pizza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8" name="Picture 5" descr="pizza"/>
          <p:cNvPicPr/>
          <p:nvPr/>
        </p:nvPicPr>
        <p:blipFill>
          <a:blip r:embed="rId1"/>
          <a:stretch/>
        </p:blipFill>
        <p:spPr>
          <a:xfrm>
            <a:off x="1981080" y="1981080"/>
            <a:ext cx="2132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viens de voir un bon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venons de passer nos exame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venait de sortir quand je suis arrivé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venaient d’apprendre le passé réc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’ve just seen a good movi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’ve just sat our exam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just gone out when I arrived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just learnt the recent pas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our le présent, il faut bien connaître les trois conjugaisons principales; les verbes en -er, -ir et -r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faut savoir que pour les verbes en -ir, il y a 2 sortes; les verbes comme finir et ceux comme dormir. 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t, bien sûr, il faut apprendre par coeur les verbes irréguliers les plus commu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xprime: ce qui se passe maintenant ou généralem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Les verbes réguliers au Présent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Quelles sont les terminaisons?</a:t>
            </a: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e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fin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dorm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e, -es, -e,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, -is, -i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sons, -issez, -iss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rebuchet MS"/>
              </a:rPr>
              <a:t>Les verbes irréguliers au Présent - quelles sont les formes...?</a:t>
            </a:r>
            <a:endParaRPr b="1" lang="en-US" sz="37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voir: je, il,vous, 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être: je, nous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re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ller: je, ell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nir: tu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evoir: je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voir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ouvoir: j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uloir: on, n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r: tu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re: je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i, a, avez, 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uis, sommes, êtes, s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s, faites, f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ais, va, v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iens, venez, vienn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ois, devons, doi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is, savez, sa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eux, peu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ut, voulons, veul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s, voyons, voi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s, dites, dis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u verbe aller + l’infinitif d’un autre verb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fut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ar exemple: Demain, je vais aller au cin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Cannes, nous allons regarder les artistes de la plag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ous allons aussi, peut–être, nous baigner dans la m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6" name="Picture 6" descr="Cannes beach art"/>
          <p:cNvPicPr/>
          <p:nvPr/>
        </p:nvPicPr>
        <p:blipFill>
          <a:blip r:embed="rId1"/>
          <a:stretch/>
        </p:blipFill>
        <p:spPr>
          <a:xfrm>
            <a:off x="4724280" y="2666880"/>
            <a:ext cx="2925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ous les temps.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...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ext year I’m going to go to un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is evening, we’re going to study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On Saturday morning, they’re going to sleep i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’année prochaine, je vais aller à la fac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Ce soir, nous allons étudi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amedi matin, ils vont faire la grasse-matin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Forme: radical + terminaison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Radicaux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pour les verbes en -er et en -ir, c’est l’infinitif et pour ceux en -re, enlever le 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Pour les autres, il faut apprendre la form ‘je’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Terminaisons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-ai, -as, -a, -ons, -ez, -ont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(comme le verbe avoir!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xprime une  action ou un état à l’aveni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Dans la phrase “Nous irons en France”, ‘irons’ est au Futur Simpl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Futur Simple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près avoir quitté l’école, j’irai à l’étrange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travaillerai comme serveur pour gagner de l’argen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passerai du temps e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reviendrai en NZ un jou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leaving school, I will go abroa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work as a waiter to earn some mone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spend some time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come back to NZ one 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Nice, je me promènerai sur la Promenade des Anglais et je prendrai le déjeuner au soleil, sur la plage. Je m’amuserai bien dans le Mid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5" name="Picture 8" descr="Sur la Prom, Nice 4 Jan 09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6" name="Picture 9" descr="Déjeuner 16 Jan 4"/>
          <p:cNvPicPr/>
          <p:nvPr/>
        </p:nvPicPr>
        <p:blipFill>
          <a:blip r:embed="rId2"/>
          <a:stretch/>
        </p:blipFill>
        <p:spPr>
          <a:xfrm>
            <a:off x="5257800" y="198108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Futur Simple de l’auxiliaire + PP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future qui aura lieu avant une autre action futu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n 2012, il aura fini ses études”, ‘il aura fini’ est au Futur Antérieu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rebuchet MS"/>
              </a:rPr>
              <a:t>Le Futur Antérieur...traduisez</a:t>
            </a:r>
            <a:endParaRPr b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vant de partir à l’étranger, j’aurai travaillé pendant un an au moi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près qu’elle sera partie, nous nous couchero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Il sortira quand il aura fini son travail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Demain à cette heure, nous serons arrivés en France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Before going overseas, I’ll have worked for a year at leas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she’s left, we’ll go to b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He’ll go out, when he’s finished his work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omorrow at this time, we will have arrived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vant de quitter Paris, nous aurons visité l’Obélisque, le Grand Palais et la Tour Eiffel, parmi d’autres attractions célèbre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70" name="Picture 6" descr="famous landmarks"/>
          <p:cNvPicPr/>
          <p:nvPr/>
        </p:nvPicPr>
        <p:blipFill>
          <a:blip r:embed="rId1"/>
          <a:stretch/>
        </p:blipFill>
        <p:spPr>
          <a:xfrm>
            <a:off x="3200400" y="18288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Imparfait de l’auxiliaire (avoir ou être) + Participe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passée antérieure à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J’avais fini quand vous êtes arrivé”, “j’avais fini” est au Plus-que-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n anglais, c’est “had done/had been doing”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avec êt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s étaient sortis de l’école militaire et avaient regardé le monument de la paix quand ils se sont rendus compte que la Tour Eiffel se trouvait juste derrière...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64" name="Picture 6" descr="école militaire 13 Jan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7" descr="peace monument"/>
          <p:cNvPicPr/>
          <p:nvPr/>
        </p:nvPicPr>
        <p:blipFill>
          <a:blip r:embed="rId2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lle m’a demandé si j’avais vu l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étaient déjà descendus quand je suis entr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était déjà levé quand sa mère l’a appel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She asked me if I’d seen th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already come downstairs when I came in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already got up when his mother called hi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endre la forme ‘nous’ du Présent, enlever ‘-ons’, puis ajouter des terminaisons: ais, ais, ait, ions, iez, aien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1) une description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2) une action continue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3) une habitude passé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lle parlait au téléphone quand je suis entré”, “elle parlait” est à l’Im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Quand j’étais à La Rochelle, il faisait beau tous les j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e ciel était bleu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J’aimais me promener près des deux t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79" name="Picture 5" descr="Tours de la Chaine et st Nicholas 6 ja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228600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ach year we would go to Stewart Island on holi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t never used to rain where we l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She was wearing a beautiful, white dres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as playing on the computer when my friend arr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Chaque année, nous allions en vacances à l’Île Stewar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l ne pleuvait jamais là où nous habition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lle portait une belle robe blanch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jouais à l’ordinateur, quand mon copain est arrivé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e l’auxiliaire (avoir ou être) + Participe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un événement accompli, au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, “Cette semaine, j’ai beaucoup lu”, “j’ai lu” est au Passé Compo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qui utilisent être pour former ce temp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4:29Z</dcterms:created>
  <dc:creator>IT Dept</dc:creator>
  <dc:description/>
  <dc:language>en-US</dc:language>
  <cp:lastModifiedBy>scollett</cp:lastModifiedBy>
  <cp:lastPrinted>2009-06-01T09:23:41Z</cp:lastPrinted>
  <dcterms:modified xsi:type="dcterms:W3CDTF">2010-11-10T23:47:24Z</dcterms:modified>
  <cp:revision>45</cp:revision>
  <dc:subject/>
  <dc:title>Les temps français</dc:title>
</cp:coreProperties>
</file>